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432-0598-49E9-B370-28AB13C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D17-28B0-4DE9-9C78-5B0ED83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845-722F-4B4E-ACE2-4A3C73EF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59E-AD5D-4116-9B31-B6512A7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C12D-C823-4F0F-B642-BED0C0F0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70A6-C44B-406E-B856-30F5385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F5D3-D7DA-4338-93DB-9EA4B91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CE7-7D82-4642-8157-1418F876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995-9FE0-4A8A-8035-57B16B4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634-0F9A-48BD-A427-D95AC70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D3C-19DD-4B4B-8F70-454A32A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055-ECBC-4055-AE88-1C73747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7B33-E665-4ECB-BBDF-AE65605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94EB-BE91-4127-8525-9CEBA05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9C40-8454-4E60-8A16-21A21E01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8A8-EC1F-4A9A-BC3C-F0CEAF9C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F862-CA41-44B9-9BFC-E526B627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56E-C506-46CB-941E-2415AC06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EAD-2EAE-4261-AE4F-96527DD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E7D-F200-418C-96DA-724B7622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416-D9DD-4FF1-8E6E-C8B9A6F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FA4-8DED-4B53-9BAB-957014D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3A3-18A8-42F0-B612-ECAB0D8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751-F1BF-4AC0-8BC5-4E77323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C4A-6D25-492C-8F34-4C66131FD397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B0E2-2027-4FBF-A52F-010F9F6E0A12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121932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Structural Funds in the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03336"/>
                </a:solidFill>
                <a:latin typeface="Arial"/>
              </a:rPr>
              <a:t>are intended to help increase economic and social cohesion between Member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03336"/>
                </a:solidFill>
                <a:latin typeface="Arial"/>
              </a:rPr>
              <a:t>and constitute an important instrument for reducing regional imbalances and differences in economic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81080" y="719280"/>
            <a:ext cx="66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Comprises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program comprises the whole lab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rket and is intended to create additional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mpowerment to employed and unemployed individuals as well as to single entrepreneu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18% of the Swedish labourforce have participat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basis is the indivi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her active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38560" y="6094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4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– </a:t>
            </a: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4 horizontal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rcRect l="8666" t="17732" r="12231" b="15712"/>
          <a:stretch/>
        </p:blipFill>
        <p:spPr>
          <a:xfrm>
            <a:off x="1752480" y="2209680"/>
            <a:ext cx="7086600" cy="42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21600" y="24606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Compet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43828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Increased employability and entre-prenu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438280"/>
            <a:ext cx="137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Integration, multiplicity and equal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9960" y="2460600"/>
            <a:ext cx="143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3280" y="373392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Equal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9680" y="4419720"/>
            <a:ext cx="50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Development of the information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3880" y="510552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Healthy development of the conditions of the working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71000" y="58053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Local and region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8800" y="457200"/>
            <a:ext cx="70102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EQUAL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d3af9"/>
                </a:solidFill>
                <a:latin typeface="Arial"/>
              </a:rPr>
              <a:t>Contribute with new solutions how to create a more inclusive working life without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d3af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qual is the community initiative providing support for the development of new methods to counteract discrimination and exclusion in the working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Equal programme in Sweden account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totalt of € 172,4 million of which the Social Fund contributes around € 86.2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rcRect l="0" t="9276" r="0" b="0"/>
          <a:stretch/>
        </p:blipFill>
        <p:spPr>
          <a:xfrm>
            <a:off x="2057400" y="1295280"/>
            <a:ext cx="6477120" cy="419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7040" y="806400"/>
            <a:ext cx="56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d3af9"/>
                </a:solidFill>
                <a:latin typeface="Arial"/>
              </a:rPr>
              <a:t>The organisation of the Swedish ESF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rcRect l="0" t="6905" r="0" b="0"/>
          <a:stretch/>
        </p:blipFill>
        <p:spPr>
          <a:xfrm>
            <a:off x="1514520" y="1066680"/>
            <a:ext cx="7477200" cy="5267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60240" y="60948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d3af9"/>
                </a:solidFill>
                <a:latin typeface="Arial"/>
              </a:rPr>
              <a:t>The implementation organisation of Objective 3 and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1280" y="-73080"/>
            <a:ext cx="1568160" cy="7159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00200" y="838080"/>
            <a:ext cx="72388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European Social Fund</a:t>
            </a:r>
            <a:r>
              <a:rPr b="1" lang="sv-SE" sz="3200" spc="-1" strike="noStrike">
                <a:solidFill>
                  <a:srgbClr val="0d3af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aims to achie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a high level of employment, equality between men and women, sustainable developmen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economic and social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647640" cy="59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563868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7440" y="617076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81080" y="380880"/>
            <a:ext cx="662940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9900"/>
                </a:solidFill>
                <a:latin typeface="AGaramond SemiboldItalic"/>
              </a:rPr>
              <a:t>Objec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Aims to promote the development and structural adjustment of regions which development is lagging beh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cc"/>
                </a:solidFill>
                <a:latin typeface="AGaramond SemiboldItalic"/>
              </a:rPr>
              <a:t>Objec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To support the economic and social conversion of regions facing structural difficulties (industrial, rural and urban areas and areas dependent on fisher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996600"/>
                </a:solidFill>
                <a:latin typeface="AGaramond SemiboldItalic"/>
              </a:rPr>
              <a:t>Objec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To support the adaption and modernisation of policies and systems of education, professional training and emplo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0000"/>
                </a:solidFill>
                <a:latin typeface="AGaramond SemiboldItalic"/>
              </a:rPr>
              <a:t>Community initiativ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A laboratory to find new solutions to create a more inclusive working life without exclusion or discri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4956120" cy="5105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168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41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U 2004–2006 Areas for objective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rcRect l="0" t="0" r="53838" b="0"/>
          <a:stretch/>
        </p:blipFill>
        <p:spPr>
          <a:xfrm>
            <a:off x="6781680" y="2514600"/>
            <a:ext cx="2057400" cy="1257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rcRect l="45891" t="0" r="1796" b="0"/>
          <a:stretch/>
        </p:blipFill>
        <p:spPr>
          <a:xfrm>
            <a:off x="6781680" y="3733920"/>
            <a:ext cx="221004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5120" y="719280"/>
            <a:ext cx="685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EU total of €195 billion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structural funds 2000–2006</a:t>
            </a: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008160" y="1447920"/>
            <a:ext cx="5297760" cy="401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581520" y="54864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160" y="28954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28280" y="40384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66960" y="236232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85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…</a:t>
            </a: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and € 2,19 bill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goes to Swe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3048120"/>
            <a:ext cx="6529320" cy="26287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5240" y="3124080"/>
            <a:ext cx="903240" cy="1498680"/>
          </a:xfrm>
          <a:custGeom>
            <a:avLst/>
            <a:gdLst/>
            <a:ahLst/>
            <a:rect l="l" t="t" r="r" b="b"/>
            <a:pathLst>
              <a:path w="569" h="944">
                <a:moveTo>
                  <a:pt x="0" y="168"/>
                </a:moveTo>
                <a:lnTo>
                  <a:pt x="8" y="0"/>
                </a:lnTo>
                <a:lnTo>
                  <a:pt x="569" y="456"/>
                </a:lnTo>
                <a:lnTo>
                  <a:pt x="569" y="944"/>
                </a:lnTo>
                <a:lnTo>
                  <a:pt x="424" y="848"/>
                </a:lnTo>
                <a:lnTo>
                  <a:pt x="0" y="168"/>
                </a:lnTo>
                <a:close/>
              </a:path>
            </a:pathLst>
          </a:custGeom>
          <a:solidFill>
            <a:srgbClr val="608bc1"/>
          </a:solidFill>
          <a:ln w="12600">
            <a:solidFill>
              <a:srgbClr val="608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840" y="3073320"/>
            <a:ext cx="903600" cy="774720"/>
          </a:xfrm>
          <a:custGeom>
            <a:avLst/>
            <a:gdLst/>
            <a:ahLst/>
            <a:rect l="l" t="t" r="r" b="b"/>
            <a:pathLst>
              <a:path w="569" h="488">
                <a:moveTo>
                  <a:pt x="0" y="32"/>
                </a:moveTo>
                <a:lnTo>
                  <a:pt x="120" y="8"/>
                </a:lnTo>
                <a:lnTo>
                  <a:pt x="240" y="0"/>
                </a:lnTo>
                <a:lnTo>
                  <a:pt x="569" y="0"/>
                </a:lnTo>
                <a:lnTo>
                  <a:pt x="561" y="488"/>
                </a:lnTo>
                <a:lnTo>
                  <a:pt x="0" y="32"/>
                </a:lnTo>
                <a:close/>
              </a:path>
            </a:pathLst>
          </a:custGeom>
          <a:solidFill>
            <a:srgbClr val="90aed4"/>
          </a:solidFill>
          <a:ln w="12600">
            <a:solidFill>
              <a:srgbClr val="90ae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75240" y="3860640"/>
            <a:ext cx="2946600" cy="1231920"/>
          </a:xfrm>
          <a:custGeom>
            <a:avLst/>
            <a:gdLst/>
            <a:ahLst/>
            <a:rect l="l" t="t" r="r" b="b"/>
            <a:pathLst>
              <a:path w="1856" h="776">
                <a:moveTo>
                  <a:pt x="8" y="24"/>
                </a:moveTo>
                <a:lnTo>
                  <a:pt x="0" y="144"/>
                </a:lnTo>
                <a:lnTo>
                  <a:pt x="1512" y="744"/>
                </a:lnTo>
                <a:lnTo>
                  <a:pt x="1640" y="776"/>
                </a:lnTo>
                <a:lnTo>
                  <a:pt x="1792" y="680"/>
                </a:lnTo>
                <a:lnTo>
                  <a:pt x="1840" y="632"/>
                </a:lnTo>
                <a:lnTo>
                  <a:pt x="1856" y="584"/>
                </a:lnTo>
                <a:lnTo>
                  <a:pt x="1856" y="0"/>
                </a:lnTo>
                <a:lnTo>
                  <a:pt x="8" y="2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7840" y="3111480"/>
            <a:ext cx="2934000" cy="1168560"/>
          </a:xfrm>
          <a:custGeom>
            <a:avLst/>
            <a:gdLst/>
            <a:ahLst/>
            <a:rect l="l" t="t" r="r" b="b"/>
            <a:pathLst>
              <a:path w="1848" h="736">
                <a:moveTo>
                  <a:pt x="0" y="0"/>
                </a:moveTo>
                <a:lnTo>
                  <a:pt x="0" y="496"/>
                </a:lnTo>
                <a:lnTo>
                  <a:pt x="1640" y="736"/>
                </a:lnTo>
                <a:lnTo>
                  <a:pt x="1768" y="624"/>
                </a:lnTo>
                <a:lnTo>
                  <a:pt x="1816" y="576"/>
                </a:lnTo>
                <a:lnTo>
                  <a:pt x="1840" y="528"/>
                </a:lnTo>
                <a:lnTo>
                  <a:pt x="1848" y="488"/>
                </a:lnTo>
                <a:lnTo>
                  <a:pt x="1840" y="440"/>
                </a:lnTo>
                <a:lnTo>
                  <a:pt x="1824" y="400"/>
                </a:lnTo>
                <a:lnTo>
                  <a:pt x="1792" y="360"/>
                </a:lnTo>
                <a:lnTo>
                  <a:pt x="1688" y="288"/>
                </a:lnTo>
                <a:lnTo>
                  <a:pt x="1528" y="224"/>
                </a:lnTo>
                <a:lnTo>
                  <a:pt x="1072" y="104"/>
                </a:lnTo>
                <a:lnTo>
                  <a:pt x="784" y="48"/>
                </a:lnTo>
                <a:lnTo>
                  <a:pt x="544" y="16"/>
                </a:lnTo>
                <a:lnTo>
                  <a:pt x="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038480"/>
            <a:ext cx="2539800" cy="1587600"/>
          </a:xfrm>
          <a:custGeom>
            <a:avLst/>
            <a:gdLst/>
            <a:ahLst/>
            <a:rect l="l" t="t" r="r" b="b"/>
            <a:pathLst>
              <a:path w="1600" h="1000">
                <a:moveTo>
                  <a:pt x="0" y="0"/>
                </a:moveTo>
                <a:lnTo>
                  <a:pt x="0" y="608"/>
                </a:lnTo>
                <a:lnTo>
                  <a:pt x="128" y="1000"/>
                </a:lnTo>
                <a:lnTo>
                  <a:pt x="544" y="984"/>
                </a:lnTo>
                <a:lnTo>
                  <a:pt x="968" y="936"/>
                </a:lnTo>
                <a:lnTo>
                  <a:pt x="1136" y="904"/>
                </a:lnTo>
                <a:lnTo>
                  <a:pt x="1288" y="872"/>
                </a:lnTo>
                <a:lnTo>
                  <a:pt x="1600" y="776"/>
                </a:lnTo>
                <a:lnTo>
                  <a:pt x="160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560" y="4038480"/>
            <a:ext cx="2540160" cy="749520"/>
          </a:xfrm>
          <a:custGeom>
            <a:avLst/>
            <a:gdLst/>
            <a:ahLst/>
            <a:rect l="l" t="t" r="r" b="b"/>
            <a:pathLst>
              <a:path w="1600" h="472">
                <a:moveTo>
                  <a:pt x="0" y="0"/>
                </a:moveTo>
                <a:lnTo>
                  <a:pt x="1600" y="240"/>
                </a:lnTo>
                <a:lnTo>
                  <a:pt x="1320" y="352"/>
                </a:lnTo>
                <a:lnTo>
                  <a:pt x="1184" y="384"/>
                </a:lnTo>
                <a:lnTo>
                  <a:pt x="1024" y="416"/>
                </a:lnTo>
                <a:lnTo>
                  <a:pt x="776" y="456"/>
                </a:lnTo>
                <a:lnTo>
                  <a:pt x="560" y="472"/>
                </a:lnTo>
                <a:lnTo>
                  <a:pt x="104" y="472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0440" y="3137040"/>
            <a:ext cx="2641680" cy="711000"/>
          </a:xfrm>
          <a:custGeom>
            <a:avLst/>
            <a:gdLst/>
            <a:ahLst/>
            <a:rect l="l" t="t" r="r" b="b"/>
            <a:pathLst>
              <a:path w="1664" h="448">
                <a:moveTo>
                  <a:pt x="0" y="264"/>
                </a:moveTo>
                <a:lnTo>
                  <a:pt x="0" y="264"/>
                </a:lnTo>
                <a:lnTo>
                  <a:pt x="104" y="200"/>
                </a:lnTo>
                <a:lnTo>
                  <a:pt x="216" y="152"/>
                </a:lnTo>
                <a:lnTo>
                  <a:pt x="344" y="104"/>
                </a:lnTo>
                <a:lnTo>
                  <a:pt x="512" y="72"/>
                </a:lnTo>
                <a:lnTo>
                  <a:pt x="848" y="16"/>
                </a:lnTo>
                <a:lnTo>
                  <a:pt x="1120" y="0"/>
                </a:lnTo>
                <a:lnTo>
                  <a:pt x="1664" y="448"/>
                </a:lnTo>
                <a:lnTo>
                  <a:pt x="0" y="264"/>
                </a:lnTo>
                <a:close/>
              </a:path>
            </a:pathLst>
          </a:custGeom>
          <a:solidFill>
            <a:srgbClr val="ff5d60"/>
          </a:solidFill>
          <a:ln w="12600">
            <a:solidFill>
              <a:srgbClr val="ff5d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0440" y="3556080"/>
            <a:ext cx="2667240" cy="774720"/>
          </a:xfrm>
          <a:custGeom>
            <a:avLst/>
            <a:gdLst/>
            <a:ahLst/>
            <a:rect l="l" t="t" r="r" b="b"/>
            <a:pathLst>
              <a:path w="1680" h="488">
                <a:moveTo>
                  <a:pt x="0" y="136"/>
                </a:moveTo>
                <a:lnTo>
                  <a:pt x="0" y="0"/>
                </a:lnTo>
                <a:lnTo>
                  <a:pt x="1680" y="184"/>
                </a:lnTo>
                <a:lnTo>
                  <a:pt x="1680" y="488"/>
                </a:lnTo>
                <a:lnTo>
                  <a:pt x="0" y="136"/>
                </a:lnTo>
                <a:close/>
              </a:path>
            </a:pathLst>
          </a:custGeom>
          <a:solidFill>
            <a:srgbClr val="ff171c"/>
          </a:solidFill>
          <a:ln w="12600">
            <a:solidFill>
              <a:srgbClr val="ff17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7720" y="4089240"/>
            <a:ext cx="3149640" cy="1549440"/>
          </a:xfrm>
          <a:custGeom>
            <a:avLst/>
            <a:gdLst/>
            <a:ahLst/>
            <a:rect l="l" t="t" r="r" b="b"/>
            <a:pathLst>
              <a:path w="1984" h="976">
                <a:moveTo>
                  <a:pt x="0" y="0"/>
                </a:moveTo>
                <a:lnTo>
                  <a:pt x="0" y="560"/>
                </a:lnTo>
                <a:lnTo>
                  <a:pt x="72" y="640"/>
                </a:lnTo>
                <a:lnTo>
                  <a:pt x="176" y="720"/>
                </a:lnTo>
                <a:lnTo>
                  <a:pt x="304" y="784"/>
                </a:lnTo>
                <a:lnTo>
                  <a:pt x="384" y="816"/>
                </a:lnTo>
                <a:lnTo>
                  <a:pt x="456" y="840"/>
                </a:lnTo>
                <a:lnTo>
                  <a:pt x="680" y="880"/>
                </a:lnTo>
                <a:lnTo>
                  <a:pt x="1040" y="928"/>
                </a:lnTo>
                <a:lnTo>
                  <a:pt x="1480" y="960"/>
                </a:lnTo>
                <a:lnTo>
                  <a:pt x="1984" y="976"/>
                </a:lnTo>
                <a:lnTo>
                  <a:pt x="1976" y="480"/>
                </a:lnTo>
                <a:lnTo>
                  <a:pt x="0" y="0"/>
                </a:lnTo>
                <a:close/>
              </a:path>
            </a:pathLst>
          </a:custGeom>
          <a:solidFill>
            <a:srgbClr val="842800"/>
          </a:solidFill>
          <a:ln w="12600">
            <a:solidFill>
              <a:srgbClr val="84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0320" y="3759120"/>
            <a:ext cx="312444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152" y="0"/>
                </a:moveTo>
                <a:lnTo>
                  <a:pt x="40" y="96"/>
                </a:lnTo>
                <a:lnTo>
                  <a:pt x="8" y="144"/>
                </a:lnTo>
                <a:lnTo>
                  <a:pt x="0" y="192"/>
                </a:lnTo>
                <a:lnTo>
                  <a:pt x="0" y="232"/>
                </a:lnTo>
                <a:lnTo>
                  <a:pt x="8" y="272"/>
                </a:lnTo>
                <a:lnTo>
                  <a:pt x="64" y="344"/>
                </a:lnTo>
                <a:lnTo>
                  <a:pt x="144" y="408"/>
                </a:lnTo>
                <a:lnTo>
                  <a:pt x="248" y="464"/>
                </a:lnTo>
                <a:lnTo>
                  <a:pt x="464" y="536"/>
                </a:lnTo>
                <a:lnTo>
                  <a:pt x="888" y="608"/>
                </a:lnTo>
                <a:lnTo>
                  <a:pt x="1296" y="664"/>
                </a:lnTo>
                <a:lnTo>
                  <a:pt x="1672" y="680"/>
                </a:lnTo>
                <a:lnTo>
                  <a:pt x="1968" y="688"/>
                </a:lnTo>
                <a:lnTo>
                  <a:pt x="1840" y="192"/>
                </a:lnTo>
                <a:lnTo>
                  <a:pt x="152" y="0"/>
                </a:lnTo>
                <a:close/>
              </a:path>
            </a:pathLst>
          </a:custGeom>
          <a:solidFill>
            <a:srgbClr val="a76627"/>
          </a:solidFill>
          <a:ln w="12600">
            <a:solidFill>
              <a:srgbClr val="a766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558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Initiative 1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5638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362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90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7192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Swedish ESF Counci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...is the government auth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sponsible for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the Objective 3 and EQUAL program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is work is conducted in close co-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th the organisations of the labour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other interest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7400" y="1055520"/>
            <a:ext cx="63244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Organ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300" spc="-1" strike="noStrike">
                <a:solidFill>
                  <a:srgbClr val="000000"/>
                </a:solidFill>
                <a:latin typeface="Arial"/>
              </a:rPr>
              <a:t>To carry out this work, partnerships have been created, at both the national level as well as the regional level which actively promote and monitor the progra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300" spc="-1" strike="noStrike">
                <a:solidFill>
                  <a:srgbClr val="000000"/>
                </a:solidFill>
                <a:latin typeface="Arial"/>
              </a:rPr>
              <a:t>The council consists of a central office and regional offices in the administrative provinces of Swede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719280"/>
            <a:ext cx="655344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Speed u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n Sweden Objective 3 aims to adapt and modernise policies and systems of education, training and employ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 main part of the program stimulate competence development activities in companies, public sector and organis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9:20:53Z</dcterms:created>
  <dc:creator>Mats</dc:creator>
  <dc:description/>
  <dc:language>en-US</dc:language>
  <cp:lastModifiedBy>Agnetha Svensk</cp:lastModifiedBy>
  <cp:lastPrinted>2005-07-12T14:30:21Z</cp:lastPrinted>
  <dcterms:modified xsi:type="dcterms:W3CDTF">2005-11-15T17:07:23Z</dcterms:modified>
  <cp:revision>30</cp:revision>
  <dc:subject/>
  <dc:title>Ingen bildrubrik</dc:title>
</cp:coreProperties>
</file>