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8A2-3165-43F2-B5F9-6FE7651C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272840"/>
            <a:ext cx="8534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45DB-44C2-4A4A-93CA-829B2045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51D1-B7A1-4179-B5A2-3E8209FB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236232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236232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27284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427284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427284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B94-CBAA-405D-B485-08CDD31F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0C8F-C854-4492-92EE-37682EE7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9B20-C8A1-447E-8A8B-2C127AD8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05BB-376C-421C-B51C-27E86DD0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71C7-311E-44B2-ACFF-FD848466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B5E8-2C63-4951-A6ED-E19BBB96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4E20-FFF0-4AD0-B365-A2F29321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D6DA-1540-4604-A2AB-DF42A2C8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5514-8E03-440D-B29D-4120F708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ADC0-C4FE-414C-B6F6-66537EEE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272840"/>
            <a:ext cx="8534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11AB-EE11-4E7A-923B-63763FC4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272840"/>
            <a:ext cx="8534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F132-4DEE-482C-AE50-E0A26C08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6452-48C8-48DC-86F3-E8EB8A27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236232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236232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27284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427284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4272840"/>
            <a:ext cx="274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7662-4DD3-43D8-938B-3CAD89A5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1B9-7A42-4643-8FAD-39077C66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D306-10A2-4FD8-A8EE-2FE1B9CD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EF24-8A69-4845-BFE1-33D727BB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C137-7D4B-4F44-83EE-EE9605EF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DC09-1411-4BEC-8A23-12C2DC6F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427284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E38F-A0B5-4F93-B700-069AE229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2362320"/>
            <a:ext cx="4164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272840"/>
            <a:ext cx="8534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01D6-83D2-4F32-80EA-D072B608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23623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2367-1C17-4B98-8943-FDCACE1B073F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1653-B00B-4312-8007-C7037D533A9B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29061" t="15352" r="48261" b="20200"/>
          <a:stretch/>
        </p:blipFill>
        <p:spPr>
          <a:xfrm>
            <a:off x="-76320" y="-76320"/>
            <a:ext cx="1568520" cy="7159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00200" y="1219320"/>
            <a:ext cx="7086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The Structural Funds in the E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03336"/>
                </a:solidFill>
                <a:latin typeface="Arial"/>
              </a:rPr>
              <a:t>are intended to help increase economic and social cohesion between Member St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03336"/>
                </a:solidFill>
                <a:latin typeface="Arial"/>
              </a:rPr>
              <a:t>and constitute an important instrument for reducing regional imbalances and differences in economic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53880" y="355680"/>
            <a:ext cx="648000" cy="592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90600" y="563580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77200" y="616752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29061" t="15352" r="48261" b="20200"/>
          <a:stretch/>
        </p:blipFill>
        <p:spPr>
          <a:xfrm>
            <a:off x="-76320" y="-76320"/>
            <a:ext cx="1568520" cy="7159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981080" y="719280"/>
            <a:ext cx="6629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Comprises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e program comprises the whole lab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market and is intended to create additional 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mpowerment to employed and unemployed individuals as well as to single entrepreneu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18% of the Swedish labourforce have participated so f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e basis is the individ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nd her active particip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53880" y="355680"/>
            <a:ext cx="648000" cy="592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90600" y="563580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7200" y="616752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29061" t="15352" r="48261" b="20200"/>
          <a:stretch/>
        </p:blipFill>
        <p:spPr>
          <a:xfrm>
            <a:off x="-76320" y="-76320"/>
            <a:ext cx="1568520" cy="7159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338560" y="60948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4 priori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– </a:t>
            </a: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4 horizontal th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53880" y="355680"/>
            <a:ext cx="648000" cy="592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90600" y="563580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77200" y="616752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rcRect l="8666" t="17732" r="12231" b="15712"/>
          <a:stretch/>
        </p:blipFill>
        <p:spPr>
          <a:xfrm>
            <a:off x="1752480" y="2209680"/>
            <a:ext cx="7086600" cy="4213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821600" y="246060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Garamond Semibold"/>
              </a:rPr>
              <a:t>Compete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Garamond Semibold"/>
              </a:rPr>
              <a:t>develop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Garamond Semibold"/>
              </a:rPr>
              <a:t>for employ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2438280"/>
            <a:ext cx="144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Garamond Semibold"/>
              </a:rPr>
              <a:t>Increased employability and entre-prenu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438280"/>
            <a:ext cx="1371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Garamond Semibold"/>
              </a:rPr>
              <a:t>Integration, multiplicity and equal opportun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39960" y="2460600"/>
            <a:ext cx="143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Garamond Semibold"/>
              </a:rPr>
              <a:t>Loc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Garamond Semibold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3280" y="3733920"/>
            <a:ext cx="22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Equal 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9680" y="4419720"/>
            <a:ext cx="50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Development of the information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53880" y="5105520"/>
            <a:ext cx="63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Healthy development of the conditions of the working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71000" y="580536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Local and region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29061" t="15352" r="48261" b="20200"/>
          <a:stretch/>
        </p:blipFill>
        <p:spPr>
          <a:xfrm>
            <a:off x="-76320" y="-76320"/>
            <a:ext cx="1568520" cy="7159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828800" y="457200"/>
            <a:ext cx="701028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EQUAL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d3af9"/>
                </a:solidFill>
                <a:latin typeface="Arial"/>
              </a:rPr>
              <a:t>Contribute with new solutions how to create a more inclusive working life without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d3af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qual is the community initiative providing support for the development of new methods to counteract discrimination and exclusion in the working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e Equal programme in Sweden account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 totalt of € 172,4 million of which the Social Fund contributes around € 86.2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53880" y="355680"/>
            <a:ext cx="648000" cy="592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90600" y="563580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77200" y="616752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29061" t="15352" r="48261" b="20200"/>
          <a:stretch/>
        </p:blipFill>
        <p:spPr>
          <a:xfrm>
            <a:off x="-76320" y="-76320"/>
            <a:ext cx="1568520" cy="7159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53880" y="355680"/>
            <a:ext cx="648000" cy="592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90600" y="563580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77200" y="616752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rcRect l="0" t="9276" r="0" b="0"/>
          <a:stretch/>
        </p:blipFill>
        <p:spPr>
          <a:xfrm>
            <a:off x="2057400" y="1295280"/>
            <a:ext cx="6477120" cy="4191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417040" y="806400"/>
            <a:ext cx="566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d3af9"/>
                </a:solidFill>
                <a:latin typeface="Arial"/>
              </a:rPr>
              <a:t>The organisation of the Swedish ESF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rcRect l="29061" t="15352" r="48261" b="20200"/>
          <a:stretch/>
        </p:blipFill>
        <p:spPr>
          <a:xfrm>
            <a:off x="-76320" y="-76320"/>
            <a:ext cx="1568520" cy="7159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53880" y="355680"/>
            <a:ext cx="648000" cy="592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90600" y="563580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77200" y="616752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rcRect l="0" t="6905" r="0" b="0"/>
          <a:stretch/>
        </p:blipFill>
        <p:spPr>
          <a:xfrm>
            <a:off x="1514520" y="1066680"/>
            <a:ext cx="7477200" cy="52675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560240" y="609480"/>
            <a:ext cx="740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d3af9"/>
                </a:solidFill>
                <a:latin typeface="Arial"/>
              </a:rPr>
              <a:t>The implementation organisation of Objective 3 and EQ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29061" t="15352" r="48261" b="20200"/>
          <a:stretch/>
        </p:blipFill>
        <p:spPr>
          <a:xfrm>
            <a:off x="-71280" y="-73080"/>
            <a:ext cx="1568160" cy="7159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600200" y="838080"/>
            <a:ext cx="723888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The European Social Fund</a:t>
            </a:r>
            <a:r>
              <a:rPr b="1" lang="sv-SE" sz="3200" spc="-1" strike="noStrike">
                <a:solidFill>
                  <a:srgbClr val="0d3af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303336"/>
                </a:solidFill>
                <a:latin typeface="Arial"/>
              </a:rPr>
              <a:t>aims to achie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303336"/>
                </a:solidFill>
                <a:latin typeface="Arial"/>
              </a:rPr>
              <a:t>a high level of employment, equality between men and women, sustainable developmen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303336"/>
                </a:solidFill>
                <a:latin typeface="Arial"/>
              </a:rPr>
              <a:t>economic and social cohe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8920" y="358920"/>
            <a:ext cx="647640" cy="59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95280" y="563868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07440" y="617076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29061" t="15352" r="48261" b="20200"/>
          <a:stretch/>
        </p:blipFill>
        <p:spPr>
          <a:xfrm>
            <a:off x="-76320" y="-76320"/>
            <a:ext cx="1568520" cy="7159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981080" y="380880"/>
            <a:ext cx="6629400" cy="57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9900"/>
                </a:solidFill>
                <a:latin typeface="AGaramond SemiboldItalic"/>
              </a:rPr>
              <a:t>Objectiv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Garamond"/>
              </a:rPr>
              <a:t>Aims to promote the development and structural adjustment of regions which development is lagging behi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3333cc"/>
                </a:solidFill>
                <a:latin typeface="AGaramond SemiboldItalic"/>
              </a:rPr>
              <a:t>Objectiv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Garamond"/>
              </a:rPr>
              <a:t>To support the economic and social conversion of regions facing structural difficulties (industrial, rural and urban areas and areas dependent on fisheri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996600"/>
                </a:solidFill>
                <a:latin typeface="AGaramond SemiboldItalic"/>
              </a:rPr>
              <a:t>Objectiv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Garamond"/>
              </a:rPr>
              <a:t>To support the adaption and modernisation of policies and systems of education, professional training and employ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0000"/>
                </a:solidFill>
                <a:latin typeface="AGaramond SemiboldItalic"/>
              </a:rPr>
              <a:t>Community initiative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Garamond"/>
              </a:rPr>
              <a:t>A laboratory to find new solutions to create a more inclusive working life without exclusion or discrimin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3880" y="355680"/>
            <a:ext cx="648000" cy="592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90600" y="563580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77200" y="616752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4956120" cy="5105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29061" t="15352" r="48261" b="20200"/>
          <a:stretch/>
        </p:blipFill>
        <p:spPr>
          <a:xfrm>
            <a:off x="-76320" y="-76320"/>
            <a:ext cx="1568520" cy="7159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53880" y="355680"/>
            <a:ext cx="648000" cy="592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90600" y="563580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01680" y="616752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4413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EU 2004–2006 Areas for objective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rcRect l="0" t="0" r="53838" b="0"/>
          <a:stretch/>
        </p:blipFill>
        <p:spPr>
          <a:xfrm>
            <a:off x="6781680" y="2514600"/>
            <a:ext cx="2057400" cy="1257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rcRect l="45891" t="0" r="1796" b="0"/>
          <a:stretch/>
        </p:blipFill>
        <p:spPr>
          <a:xfrm>
            <a:off x="6781680" y="3733920"/>
            <a:ext cx="2210040" cy="11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29061" t="15352" r="48261" b="20200"/>
          <a:stretch/>
        </p:blipFill>
        <p:spPr>
          <a:xfrm>
            <a:off x="-76320" y="-76320"/>
            <a:ext cx="1568520" cy="7159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05120" y="719280"/>
            <a:ext cx="6858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EU total of €195 billion in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structural funds 2000–2006</a:t>
            </a:r>
            <a:r>
              <a:rPr b="1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53880" y="355680"/>
            <a:ext cx="648000" cy="592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90600" y="563580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7200" y="616752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008160" y="1447920"/>
            <a:ext cx="5297760" cy="4012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581520" y="548640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Objectiv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11160" y="289548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Objectiv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28280" y="403848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Objectiv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66960" y="2362320"/>
            <a:ext cx="149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Commun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initi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29061" t="15352" r="48261" b="20200"/>
          <a:stretch/>
        </p:blipFill>
        <p:spPr>
          <a:xfrm>
            <a:off x="-76320" y="-76320"/>
            <a:ext cx="1568520" cy="7159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76520" y="68580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…</a:t>
            </a: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and € 2,19 bill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goes to Swed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53880" y="355680"/>
            <a:ext cx="648000" cy="592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90600" y="563580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77200" y="616752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5120" y="3048120"/>
            <a:ext cx="6529320" cy="2628720"/>
          </a:xfrm>
          <a:prstGeom prst="rect">
            <a:avLst/>
          </a:prstGeom>
          <a:noFill/>
          <a:ln w="0">
            <a:solidFill>
              <a:srgbClr val="fffff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05240" y="3124080"/>
            <a:ext cx="903240" cy="1498680"/>
          </a:xfrm>
          <a:custGeom>
            <a:avLst/>
            <a:gdLst/>
            <a:ahLst/>
            <a:rect l="l" t="t" r="r" b="b"/>
            <a:pathLst>
              <a:path w="569" h="944">
                <a:moveTo>
                  <a:pt x="0" y="168"/>
                </a:moveTo>
                <a:lnTo>
                  <a:pt x="8" y="0"/>
                </a:lnTo>
                <a:lnTo>
                  <a:pt x="569" y="456"/>
                </a:lnTo>
                <a:lnTo>
                  <a:pt x="569" y="944"/>
                </a:lnTo>
                <a:lnTo>
                  <a:pt x="424" y="848"/>
                </a:lnTo>
                <a:lnTo>
                  <a:pt x="0" y="168"/>
                </a:lnTo>
                <a:close/>
              </a:path>
            </a:pathLst>
          </a:custGeom>
          <a:solidFill>
            <a:srgbClr val="608bc1"/>
          </a:solidFill>
          <a:ln w="12600">
            <a:solidFill>
              <a:srgbClr val="608b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17840" y="3073320"/>
            <a:ext cx="903600" cy="774720"/>
          </a:xfrm>
          <a:custGeom>
            <a:avLst/>
            <a:gdLst/>
            <a:ahLst/>
            <a:rect l="l" t="t" r="r" b="b"/>
            <a:pathLst>
              <a:path w="569" h="488">
                <a:moveTo>
                  <a:pt x="0" y="32"/>
                </a:moveTo>
                <a:lnTo>
                  <a:pt x="120" y="8"/>
                </a:lnTo>
                <a:lnTo>
                  <a:pt x="240" y="0"/>
                </a:lnTo>
                <a:lnTo>
                  <a:pt x="569" y="0"/>
                </a:lnTo>
                <a:lnTo>
                  <a:pt x="561" y="488"/>
                </a:lnTo>
                <a:lnTo>
                  <a:pt x="0" y="32"/>
                </a:lnTo>
                <a:close/>
              </a:path>
            </a:pathLst>
          </a:custGeom>
          <a:solidFill>
            <a:srgbClr val="90aed4"/>
          </a:solidFill>
          <a:ln w="12600">
            <a:solidFill>
              <a:srgbClr val="90aed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75240" y="3860640"/>
            <a:ext cx="2946600" cy="1231920"/>
          </a:xfrm>
          <a:custGeom>
            <a:avLst/>
            <a:gdLst/>
            <a:ahLst/>
            <a:rect l="l" t="t" r="r" b="b"/>
            <a:pathLst>
              <a:path w="1856" h="776">
                <a:moveTo>
                  <a:pt x="8" y="24"/>
                </a:moveTo>
                <a:lnTo>
                  <a:pt x="0" y="144"/>
                </a:lnTo>
                <a:lnTo>
                  <a:pt x="1512" y="744"/>
                </a:lnTo>
                <a:lnTo>
                  <a:pt x="1640" y="776"/>
                </a:lnTo>
                <a:lnTo>
                  <a:pt x="1792" y="680"/>
                </a:lnTo>
                <a:lnTo>
                  <a:pt x="1840" y="632"/>
                </a:lnTo>
                <a:lnTo>
                  <a:pt x="1856" y="584"/>
                </a:lnTo>
                <a:lnTo>
                  <a:pt x="1856" y="0"/>
                </a:lnTo>
                <a:lnTo>
                  <a:pt x="8" y="24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87840" y="3111480"/>
            <a:ext cx="2934000" cy="1168560"/>
          </a:xfrm>
          <a:custGeom>
            <a:avLst/>
            <a:gdLst/>
            <a:ahLst/>
            <a:rect l="l" t="t" r="r" b="b"/>
            <a:pathLst>
              <a:path w="1848" h="736">
                <a:moveTo>
                  <a:pt x="0" y="0"/>
                </a:moveTo>
                <a:lnTo>
                  <a:pt x="0" y="496"/>
                </a:lnTo>
                <a:lnTo>
                  <a:pt x="1640" y="736"/>
                </a:lnTo>
                <a:lnTo>
                  <a:pt x="1768" y="624"/>
                </a:lnTo>
                <a:lnTo>
                  <a:pt x="1816" y="576"/>
                </a:lnTo>
                <a:lnTo>
                  <a:pt x="1840" y="528"/>
                </a:lnTo>
                <a:lnTo>
                  <a:pt x="1848" y="488"/>
                </a:lnTo>
                <a:lnTo>
                  <a:pt x="1840" y="440"/>
                </a:lnTo>
                <a:lnTo>
                  <a:pt x="1824" y="400"/>
                </a:lnTo>
                <a:lnTo>
                  <a:pt x="1792" y="360"/>
                </a:lnTo>
                <a:lnTo>
                  <a:pt x="1688" y="288"/>
                </a:lnTo>
                <a:lnTo>
                  <a:pt x="1528" y="224"/>
                </a:lnTo>
                <a:lnTo>
                  <a:pt x="1072" y="104"/>
                </a:lnTo>
                <a:lnTo>
                  <a:pt x="784" y="48"/>
                </a:lnTo>
                <a:lnTo>
                  <a:pt x="544" y="16"/>
                </a:lnTo>
                <a:lnTo>
                  <a:pt x="296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4038480"/>
            <a:ext cx="2539800" cy="1587600"/>
          </a:xfrm>
          <a:custGeom>
            <a:avLst/>
            <a:gdLst/>
            <a:ahLst/>
            <a:rect l="l" t="t" r="r" b="b"/>
            <a:pathLst>
              <a:path w="1600" h="1000">
                <a:moveTo>
                  <a:pt x="0" y="0"/>
                </a:moveTo>
                <a:lnTo>
                  <a:pt x="0" y="608"/>
                </a:lnTo>
                <a:lnTo>
                  <a:pt x="128" y="1000"/>
                </a:lnTo>
                <a:lnTo>
                  <a:pt x="544" y="984"/>
                </a:lnTo>
                <a:lnTo>
                  <a:pt x="968" y="936"/>
                </a:lnTo>
                <a:lnTo>
                  <a:pt x="1136" y="904"/>
                </a:lnTo>
                <a:lnTo>
                  <a:pt x="1288" y="872"/>
                </a:lnTo>
                <a:lnTo>
                  <a:pt x="1600" y="776"/>
                </a:lnTo>
                <a:lnTo>
                  <a:pt x="160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3366ff"/>
          </a:solidFill>
          <a:ln w="64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560" y="4038480"/>
            <a:ext cx="2540160" cy="749520"/>
          </a:xfrm>
          <a:custGeom>
            <a:avLst/>
            <a:gdLst/>
            <a:ahLst/>
            <a:rect l="l" t="t" r="r" b="b"/>
            <a:pathLst>
              <a:path w="1600" h="472">
                <a:moveTo>
                  <a:pt x="0" y="0"/>
                </a:moveTo>
                <a:lnTo>
                  <a:pt x="1600" y="240"/>
                </a:lnTo>
                <a:lnTo>
                  <a:pt x="1320" y="352"/>
                </a:lnTo>
                <a:lnTo>
                  <a:pt x="1184" y="384"/>
                </a:lnTo>
                <a:lnTo>
                  <a:pt x="1024" y="416"/>
                </a:lnTo>
                <a:lnTo>
                  <a:pt x="776" y="456"/>
                </a:lnTo>
                <a:lnTo>
                  <a:pt x="560" y="472"/>
                </a:lnTo>
                <a:lnTo>
                  <a:pt x="104" y="472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0440" y="3137040"/>
            <a:ext cx="2641680" cy="711000"/>
          </a:xfrm>
          <a:custGeom>
            <a:avLst/>
            <a:gdLst/>
            <a:ahLst/>
            <a:rect l="l" t="t" r="r" b="b"/>
            <a:pathLst>
              <a:path w="1664" h="448">
                <a:moveTo>
                  <a:pt x="0" y="264"/>
                </a:moveTo>
                <a:lnTo>
                  <a:pt x="0" y="264"/>
                </a:lnTo>
                <a:lnTo>
                  <a:pt x="104" y="200"/>
                </a:lnTo>
                <a:lnTo>
                  <a:pt x="216" y="152"/>
                </a:lnTo>
                <a:lnTo>
                  <a:pt x="344" y="104"/>
                </a:lnTo>
                <a:lnTo>
                  <a:pt x="512" y="72"/>
                </a:lnTo>
                <a:lnTo>
                  <a:pt x="848" y="16"/>
                </a:lnTo>
                <a:lnTo>
                  <a:pt x="1120" y="0"/>
                </a:lnTo>
                <a:lnTo>
                  <a:pt x="1664" y="448"/>
                </a:lnTo>
                <a:lnTo>
                  <a:pt x="0" y="264"/>
                </a:lnTo>
                <a:close/>
              </a:path>
            </a:pathLst>
          </a:custGeom>
          <a:solidFill>
            <a:srgbClr val="ff5d60"/>
          </a:solidFill>
          <a:ln w="12600">
            <a:solidFill>
              <a:srgbClr val="ff5d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0440" y="3556080"/>
            <a:ext cx="2667240" cy="774720"/>
          </a:xfrm>
          <a:custGeom>
            <a:avLst/>
            <a:gdLst/>
            <a:ahLst/>
            <a:rect l="l" t="t" r="r" b="b"/>
            <a:pathLst>
              <a:path w="1680" h="488">
                <a:moveTo>
                  <a:pt x="0" y="136"/>
                </a:moveTo>
                <a:lnTo>
                  <a:pt x="0" y="0"/>
                </a:lnTo>
                <a:lnTo>
                  <a:pt x="1680" y="184"/>
                </a:lnTo>
                <a:lnTo>
                  <a:pt x="1680" y="488"/>
                </a:lnTo>
                <a:lnTo>
                  <a:pt x="0" y="136"/>
                </a:lnTo>
                <a:close/>
              </a:path>
            </a:pathLst>
          </a:custGeom>
          <a:solidFill>
            <a:srgbClr val="ff171c"/>
          </a:solidFill>
          <a:ln w="12600">
            <a:solidFill>
              <a:srgbClr val="ff17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17720" y="4089240"/>
            <a:ext cx="3149640" cy="1549440"/>
          </a:xfrm>
          <a:custGeom>
            <a:avLst/>
            <a:gdLst/>
            <a:ahLst/>
            <a:rect l="l" t="t" r="r" b="b"/>
            <a:pathLst>
              <a:path w="1984" h="976">
                <a:moveTo>
                  <a:pt x="0" y="0"/>
                </a:moveTo>
                <a:lnTo>
                  <a:pt x="0" y="560"/>
                </a:lnTo>
                <a:lnTo>
                  <a:pt x="72" y="640"/>
                </a:lnTo>
                <a:lnTo>
                  <a:pt x="176" y="720"/>
                </a:lnTo>
                <a:lnTo>
                  <a:pt x="304" y="784"/>
                </a:lnTo>
                <a:lnTo>
                  <a:pt x="384" y="816"/>
                </a:lnTo>
                <a:lnTo>
                  <a:pt x="456" y="840"/>
                </a:lnTo>
                <a:lnTo>
                  <a:pt x="680" y="880"/>
                </a:lnTo>
                <a:lnTo>
                  <a:pt x="1040" y="928"/>
                </a:lnTo>
                <a:lnTo>
                  <a:pt x="1480" y="960"/>
                </a:lnTo>
                <a:lnTo>
                  <a:pt x="1984" y="976"/>
                </a:lnTo>
                <a:lnTo>
                  <a:pt x="1976" y="480"/>
                </a:lnTo>
                <a:lnTo>
                  <a:pt x="0" y="0"/>
                </a:lnTo>
                <a:close/>
              </a:path>
            </a:pathLst>
          </a:custGeom>
          <a:solidFill>
            <a:srgbClr val="842800"/>
          </a:solidFill>
          <a:ln w="12600">
            <a:solidFill>
              <a:srgbClr val="842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30320" y="3759120"/>
            <a:ext cx="3124440" cy="1092240"/>
          </a:xfrm>
          <a:custGeom>
            <a:avLst/>
            <a:gdLst/>
            <a:ahLst/>
            <a:rect l="l" t="t" r="r" b="b"/>
            <a:pathLst>
              <a:path w="1968" h="688">
                <a:moveTo>
                  <a:pt x="152" y="0"/>
                </a:moveTo>
                <a:lnTo>
                  <a:pt x="40" y="96"/>
                </a:lnTo>
                <a:lnTo>
                  <a:pt x="8" y="144"/>
                </a:lnTo>
                <a:lnTo>
                  <a:pt x="0" y="192"/>
                </a:lnTo>
                <a:lnTo>
                  <a:pt x="0" y="232"/>
                </a:lnTo>
                <a:lnTo>
                  <a:pt x="8" y="272"/>
                </a:lnTo>
                <a:lnTo>
                  <a:pt x="64" y="344"/>
                </a:lnTo>
                <a:lnTo>
                  <a:pt x="144" y="408"/>
                </a:lnTo>
                <a:lnTo>
                  <a:pt x="248" y="464"/>
                </a:lnTo>
                <a:lnTo>
                  <a:pt x="464" y="536"/>
                </a:lnTo>
                <a:lnTo>
                  <a:pt x="888" y="608"/>
                </a:lnTo>
                <a:lnTo>
                  <a:pt x="1296" y="664"/>
                </a:lnTo>
                <a:lnTo>
                  <a:pt x="1672" y="680"/>
                </a:lnTo>
                <a:lnTo>
                  <a:pt x="1968" y="688"/>
                </a:lnTo>
                <a:lnTo>
                  <a:pt x="1840" y="192"/>
                </a:lnTo>
                <a:lnTo>
                  <a:pt x="152" y="0"/>
                </a:lnTo>
                <a:close/>
              </a:path>
            </a:pathLst>
          </a:custGeom>
          <a:solidFill>
            <a:srgbClr val="a76627"/>
          </a:solidFill>
          <a:ln w="12600">
            <a:solidFill>
              <a:srgbClr val="a766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25588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Commun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Initiative 13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48520" y="56386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Objective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5562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Objective 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23623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53080" y="25909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Objective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Garamond SemiboldItalic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29061" t="15352" r="48261" b="20200"/>
          <a:stretch/>
        </p:blipFill>
        <p:spPr>
          <a:xfrm>
            <a:off x="-76320" y="-76320"/>
            <a:ext cx="1568520" cy="7159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828800" y="719280"/>
            <a:ext cx="685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The Swedish ESF Council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...is the government author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responsible for th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of the Objective 3 and EQUAL programm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is work is conducted in close co-op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with the organisations of the labour mar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nd other interest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3880" y="355680"/>
            <a:ext cx="648000" cy="592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90600" y="563580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77200" y="616752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29061" t="15352" r="48261" b="20200"/>
          <a:stretch/>
        </p:blipFill>
        <p:spPr>
          <a:xfrm>
            <a:off x="-76320" y="-76320"/>
            <a:ext cx="1568520" cy="7159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057400" y="1055520"/>
            <a:ext cx="632448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Organ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300" spc="-1" strike="noStrike">
                <a:solidFill>
                  <a:srgbClr val="000000"/>
                </a:solidFill>
                <a:latin typeface="Arial"/>
              </a:rPr>
              <a:t>To carry out this work, partnerships have been created, at both the national level as well as the regional level which actively promote and monitor the program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300" spc="-1" strike="noStrike">
                <a:solidFill>
                  <a:srgbClr val="000000"/>
                </a:solidFill>
                <a:latin typeface="Arial"/>
              </a:rPr>
              <a:t>The council consists of a central office and regional offices in the administrative provinces of Swede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53880" y="355680"/>
            <a:ext cx="648000" cy="592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90600" y="563580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77200" y="616752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29061" t="15352" r="48261" b="20200"/>
          <a:stretch/>
        </p:blipFill>
        <p:spPr>
          <a:xfrm>
            <a:off x="-76320" y="-76320"/>
            <a:ext cx="1568520" cy="7159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81080" y="719280"/>
            <a:ext cx="6553440" cy="47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d3af9"/>
                </a:solidFill>
                <a:latin typeface="Arial"/>
              </a:rPr>
              <a:t>Speed up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In Sweden Objective 3 aims to adapt and modernise policies and systems of education, training and employ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A main part of the program stimulate competence development activities in companies, public sector and organisa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53880" y="355680"/>
            <a:ext cx="648000" cy="592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90600" y="5635800"/>
            <a:ext cx="554040" cy="5540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200" y="6167520"/>
            <a:ext cx="78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000000"/>
                </a:solidFill>
                <a:latin typeface="Frutiger 55 Roman"/>
              </a:rPr>
              <a:t>Swedish ESF Counci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09:20:53Z</dcterms:created>
  <dc:creator>Mats</dc:creator>
  <dc:description/>
  <dc:language>en-US</dc:language>
  <cp:lastModifiedBy>Agnetha Svensk</cp:lastModifiedBy>
  <cp:lastPrinted>2005-07-12T14:30:21Z</cp:lastPrinted>
  <dcterms:modified xsi:type="dcterms:W3CDTF">2005-11-15T17:07:23Z</dcterms:modified>
  <cp:revision>30</cp:revision>
  <dc:subject/>
  <dc:title>Ingen bildrubrik</dc:title>
</cp:coreProperties>
</file>